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crowdcheersmall.wav" ContentType="audio/x-wav"/>
  <Override PartName="/ppt/media/image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3.png" ContentType="image/png"/>
  <Override PartName="/ppt/media/image1.png" ContentType="image/png"/>
  <Override PartName="/ppt/media/kick.wav" ContentType="audio/x-wav"/>
  <Override PartName="/ppt/media/image4.png" ContentType="image/png"/>
  <Override PartName="/ppt/media/whistleshort.wav" ContentType="audio/x-wav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C7F-2A7F-4198-AFF4-6A6A3D07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7C9A-AEA6-4526-9C9E-B0EFCD9D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843-EFDF-44BA-8BAF-04C3C043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A9F-431D-4BD3-BBFC-5FBA6BDE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35AE-2364-44FC-AF3D-F0A5B855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0379-A7C8-426D-AE17-79678118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5F74-9054-4355-8F78-ADD140B1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FB40-716A-4A9F-8DB9-5DDA6DB3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8322-9EBF-4AC7-9E94-28944273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676080"/>
            <a:ext cx="7543800" cy="49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CDEE-9116-4CAD-B933-DFFEC233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4541-726C-465F-AD50-86651541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774-3DFE-4183-B5DF-BAB96320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283E-F3C4-4B88-B6C0-A1614400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3237-6C4C-48F6-8B71-CDD01FF5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91FC-4E28-4204-B2F1-7A7A5ACB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E5A8-7F3E-498A-A937-34893DFD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8A12-94FE-4E9D-BFE0-D0E7587B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009-E8F8-4C7F-BCF3-90A4155F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219-5E14-4E15-AC77-822BABB0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3FE-F88E-4C53-BA7D-E444B29C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676080"/>
            <a:ext cx="7543800" cy="49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01D-FB46-49A5-ABBB-39314AB8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A2A-BEB3-4918-8E8F-838BD644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1CF-5642-408E-BB6E-0627E33E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48D-C749-490E-B61B-A34F07B2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76240" y="6480"/>
              <a:ext cx="19080" cy="1103040"/>
            </a:xfrm>
            <a:custGeom>
              <a:avLst/>
              <a:gdLst/>
              <a:ahLst/>
              <a:rect l="l" t="t" r="r" b="b"/>
              <a:pathLst>
                <a:path w="12" h="695">
                  <a:moveTo>
                    <a:pt x="12" y="0"/>
                  </a:moveTo>
                  <a:lnTo>
                    <a:pt x="0" y="0"/>
                  </a:lnTo>
                  <a:lnTo>
                    <a:pt x="0" y="695"/>
                  </a:lnTo>
                  <a:lnTo>
                    <a:pt x="12" y="695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76240" y="2576520"/>
              <a:ext cx="19080" cy="4281480"/>
            </a:xfrm>
            <a:custGeom>
              <a:avLst/>
              <a:gdLst/>
              <a:ahLst/>
              <a:rect l="l" t="t" r="r" b="b"/>
              <a:pathLst>
                <a:path w="12" h="2697">
                  <a:moveTo>
                    <a:pt x="0" y="2697"/>
                  </a:moveTo>
                  <a:lnTo>
                    <a:pt x="12" y="2697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697"/>
                  </a:lnTo>
                  <a:lnTo>
                    <a:pt x="0" y="2697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617840" y="1833480"/>
              <a:ext cx="7522920" cy="19080"/>
            </a:xfrm>
            <a:custGeom>
              <a:avLst/>
              <a:gdLst/>
              <a:ahLst/>
              <a:rect l="l" t="t" r="r" b="b"/>
              <a:pathLst>
                <a:path w="4724" h="12">
                  <a:moveTo>
                    <a:pt x="4724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4724" y="12"/>
                  </a:lnTo>
                  <a:lnTo>
                    <a:pt x="4724" y="0"/>
                  </a:lnTo>
                  <a:lnTo>
                    <a:pt x="472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6240" y="2176560"/>
              <a:ext cx="19080" cy="399960"/>
            </a:xfrm>
            <a:custGeom>
              <a:avLst/>
              <a:gdLst/>
              <a:ahLst/>
              <a:rect l="l" t="t" r="r" b="b"/>
              <a:pathLst>
                <a:path w="12" h="252">
                  <a:moveTo>
                    <a:pt x="0" y="252"/>
                  </a:moveTo>
                  <a:lnTo>
                    <a:pt x="12" y="25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240" y="1109520"/>
              <a:ext cx="19080" cy="400320"/>
            </a:xfrm>
            <a:custGeom>
              <a:avLst/>
              <a:gdLst/>
              <a:ahLst/>
              <a:rect l="l" t="t" r="r" b="b"/>
              <a:pathLst>
                <a:path w="12" h="252">
                  <a:moveTo>
                    <a:pt x="12" y="0"/>
                  </a:moveTo>
                  <a:lnTo>
                    <a:pt x="0" y="0"/>
                  </a:lnTo>
                  <a:lnTo>
                    <a:pt x="0" y="252"/>
                  </a:lnTo>
                  <a:lnTo>
                    <a:pt x="12" y="25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52600" y="1833480"/>
              <a:ext cx="664920" cy="19080"/>
            </a:xfrm>
            <a:custGeom>
              <a:avLst/>
              <a:gdLst/>
              <a:ahLst/>
              <a:rect l="l" t="t" r="r" b="b"/>
              <a:pathLst>
                <a:path w="418" h="12">
                  <a:moveTo>
                    <a:pt x="0" y="0"/>
                  </a:moveTo>
                  <a:lnTo>
                    <a:pt x="0" y="12"/>
                  </a:lnTo>
                  <a:lnTo>
                    <a:pt x="418" y="12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F017-335E-4EF3-BBAC-35905E2B40A8}" type="slidenum"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2/18/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800" y="28656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80880" y="6400800"/>
            <a:ext cx="8458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tretch/>
        </p:blipFill>
        <p:spPr>
          <a:xfrm>
            <a:off x="8493120" y="0"/>
            <a:ext cx="641520" cy="83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07F2-B6C5-4462-A129-AF22AFC6127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kick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k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istleshort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audio" Target="../media/crowdcheersmall.wav"/><Relationship Id="rId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kick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kick.wav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4680" y="1725480"/>
            <a:ext cx="7899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Brazilian Soccer Leagu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8160" y="55846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May 3,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42280" y="3886200"/>
            <a:ext cx="148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66"/>
                </a:solidFill>
                <a:uFillTx/>
                <a:latin typeface="Arial"/>
              </a:rPr>
              <a:t>Team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Nilton Bas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Emilio Fabbrizz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Theo Kerem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Daniel Roe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Kathy Wal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68800" y="2478240"/>
            <a:ext cx="852480" cy="111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5680" y="2031840"/>
            <a:ext cx="902484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00" y="3755880"/>
            <a:ext cx="887400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evenue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=(OFFSET($C$1,MATCH(IF(E57=1,B57,C57),$A$2:$A$25,0),1)*$J$54+VLOOKUP(OFFSET($C$1,MATCH(IF(E57=1,B57,C57),$A$2:$A$25,0),0),$I$51:$J$53,2))+G57*VLOOKUP((VLOOKUP(B57,$A$2:$E$25,5)+VLOOKUP(C57,$A$2:$E$25,5)),$C$33:$D$37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xpen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=$I$46+(OFFSET($C$1,MATCH(IF(E57=1,B57,C57),$A$2:$A$25,0),1)*$I$47)+OFFSET($H$26,VLOOKUP(B57,$A$2:$G$25,7),VLOOKUP(C57,$A$2:$G$25,7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01760" y="1998720"/>
            <a:ext cx="84373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57840" indent="-35784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evenue Gen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team is categorized according to their capacity to bring fans to the stadium and their ability to increase TV audi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lso, according to the stadium category, advertising revenue is assig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team is categorized with a TV revenue assig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Team has a home projected attend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x: Coritiba vs Santos (Home Team Coritiba and TV broadcast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588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Revenu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Projected Attendance: 7,000 x $15= 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105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TV Revenue (3-Coritiba+1Santos)=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35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Advertising (3-Coritiba)=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66"/>
                </a:solidFill>
                <a:uFillTx/>
                <a:latin typeface="Arial"/>
              </a:rPr>
              <a:t>$  2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05560" indent="-28656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475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09600" y="186372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57840" indent="-35784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xp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game has a fixed cost of $70,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 variable cost of $2 per estimated attend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very game has a variable travel cost which depend 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588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istance between cities, lodging, group exp. and ext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team has a home projected attend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x: Coritiba vs Santos (home team Coritib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5880" indent="-28656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xpens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Projected Attendance: 7,000 x $2= 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Fixed Cost=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7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7572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Travel Costs (Santos traveling costs)=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66"/>
                </a:solidFill>
                <a:uFillTx/>
                <a:latin typeface="Arial"/>
              </a:rPr>
              <a:t>$14,6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05560" indent="-28656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$98,6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6040" indent="-2865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09600" y="186372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Methodolog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e asked SOLVER 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Maximize the profit by determining the optimal match schedule in order to fulfill all the constraints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irst Problem…..SOLVER can’t do it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40649" t="44306" r="39737" b="39877"/>
          <a:stretch/>
        </p:blipFill>
        <p:spPr>
          <a:xfrm>
            <a:off x="2468520" y="3538440"/>
            <a:ext cx="3238560" cy="24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Methodolog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e reduced the number of teams from 24 to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5 games are played every weekend, 45 games in the seas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19320" y="3294000"/>
            <a:ext cx="667368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Methodolog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03320" y="3651120"/>
            <a:ext cx="7356600" cy="1339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04920" y="5065560"/>
            <a:ext cx="8718480" cy="1198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438200" y="1852560"/>
            <a:ext cx="7705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edefined the constraints to be fulfilled by th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e ran the model in three stag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Rounds scheduling (gre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TV broadcasting scheduling and home/away determination (yellow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Saturday matches scheduling (whi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62080" y="4367160"/>
            <a:ext cx="6438960" cy="405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944360" y="1763280"/>
            <a:ext cx="625932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occer 101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ormulation &amp; Methodolog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cision Variabl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89000" y="401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Result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5960" y="1852560"/>
            <a:ext cx="792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With the new championship version, SOLVER found a solution, but it wasn’t the opti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1470" t="13888" r="37393" b="61112"/>
          <a:stretch/>
        </p:blipFill>
        <p:spPr>
          <a:xfrm>
            <a:off x="1989000" y="3395520"/>
            <a:ext cx="5234040" cy="23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89000" y="401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Result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06800" y="243000"/>
            <a:ext cx="4043520" cy="5991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78040" y="1849320"/>
            <a:ext cx="2989080" cy="41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e reached a profit to CBF to $11,223,875 with a match schedule fulfilling all the constra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The model for 24 teams is ready to go….we will wait for the next SOLVER version or use a more powerful linear programming 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62080" y="1852560"/>
            <a:ext cx="6438960" cy="405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944360" y="1763280"/>
            <a:ext cx="625932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ccer 101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ulation &amp; Methodolog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cision Variabl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62080" y="4867200"/>
            <a:ext cx="6438960" cy="405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944360" y="1763280"/>
            <a:ext cx="625932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occer 101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ormulation &amp; Methodolog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cision Variabl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ess Conferenc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90440" y="4017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Q&amp;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30400" y="1595520"/>
            <a:ext cx="7705800" cy="4734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637240" y="3056040"/>
            <a:ext cx="650880" cy="796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328760" y="3176640"/>
            <a:ext cx="662040" cy="795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210200" y="3029040"/>
            <a:ext cx="645840" cy="796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6864480" y="3192480"/>
            <a:ext cx="685800" cy="797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2111400" y="3098880"/>
            <a:ext cx="671400" cy="79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87560" y="40176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ccer 1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hat everyone should know about the business of Soccer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occer is the world’s largest s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fficially, 240 million people worldwide actively 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In Brazil alone, anyone who can walk plays the g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Business of Soccer is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Worldwide, the soccer industry has an estimated size of ~$200 b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 most successful soccer nation in history hence plays a key ro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Brazilian lea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 of the most widely watched leagues in the wor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4 teams, 12 matches every week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pproximately 65K spectators in stadiums, 50 million on TV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09600" y="186372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3051000"/>
            <a:ext cx="563760" cy="527400"/>
          </a:xfrm>
          <a:prstGeom prst="rightArrow">
            <a:avLst>
              <a:gd name="adj1" fmla="val 54167"/>
              <a:gd name="adj2" fmla="val 4958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09600" y="426096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62080" y="2338560"/>
            <a:ext cx="6438960" cy="404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944360" y="1763280"/>
            <a:ext cx="625932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occer 101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ormulation &amp; Methodolog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cision Variabl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87200" y="40176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oblem Defin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ow to maximize the profits to the CBF (Confederacão Brasileira de Futebol)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38200" y="200988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 Brazilian Soccer League is governed by the Confederação Brasileira de Futebol – CBF (“The League”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130000"/>
              </a:lnSpc>
              <a:spcBef>
                <a:spcPts val="400"/>
              </a:spcBef>
              <a:spcAft>
                <a:spcPts val="400"/>
              </a:spcAft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 League consists of 24 teams from around the coun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130000"/>
              </a:lnSpc>
              <a:spcBef>
                <a:spcPts val="400"/>
              </a:spcBef>
              <a:spcAft>
                <a:spcPts val="400"/>
              </a:spcAft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re are 12 games every week and each team has to play the other 23 te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 League has to schedule 12 games every w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re are a number of additional constraints to consider such as the days the games can be played on, stadium availability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rofits come fro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48040" indent="-29268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icket s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48040" indent="-29268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V broadcas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48040" indent="-29268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dverti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24000" y="2049480"/>
            <a:ext cx="447480" cy="419040"/>
          </a:xfrm>
          <a:prstGeom prst="rightArrow">
            <a:avLst>
              <a:gd name="adj1" fmla="val 54167"/>
              <a:gd name="adj2" fmla="val 4953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24000" y="2725560"/>
            <a:ext cx="447480" cy="419400"/>
          </a:xfrm>
          <a:prstGeom prst="rightArrow">
            <a:avLst>
              <a:gd name="adj1" fmla="val 54167"/>
              <a:gd name="adj2" fmla="val 49495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24000" y="3149640"/>
            <a:ext cx="447480" cy="419040"/>
          </a:xfrm>
          <a:prstGeom prst="rightArrow">
            <a:avLst>
              <a:gd name="adj1" fmla="val 54167"/>
              <a:gd name="adj2" fmla="val 4953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4000" y="3873600"/>
            <a:ext cx="447480" cy="419040"/>
          </a:xfrm>
          <a:prstGeom prst="rightArrow">
            <a:avLst>
              <a:gd name="adj1" fmla="val 54167"/>
              <a:gd name="adj2" fmla="val 4953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24000" y="4254480"/>
            <a:ext cx="447480" cy="419040"/>
          </a:xfrm>
          <a:prstGeom prst="rightArrow">
            <a:avLst>
              <a:gd name="adj1" fmla="val 54167"/>
              <a:gd name="adj2" fmla="val 4953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24000" y="4935600"/>
            <a:ext cx="447480" cy="419040"/>
          </a:xfrm>
          <a:prstGeom prst="rightArrow">
            <a:avLst>
              <a:gd name="adj1" fmla="val 54167"/>
              <a:gd name="adj2" fmla="val 4953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62080" y="2867040"/>
            <a:ext cx="6438960" cy="404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944360" y="1763280"/>
            <a:ext cx="625932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occer 101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ormulation &amp; Methodolog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cision Variabl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507960" indent="-50796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35160" indent="-33516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cision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etermine the match sche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280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4 Teams = 12 games per weekend (total=276 gam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etermine local and away teams (according to revenue gen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280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eams are categorized by their ranking (Leaders, Average and Newcomers) and by their revenue generation 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etermine games to be TV broadca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etermine games to be played on Satur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160" indent="-33516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Determine a match schedule that will strike a balance between all teams and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0320" indent="-26820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Maximize the profits to the CB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160" indent="-33516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9600" y="186372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09600" y="484668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 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38200" y="1852560"/>
            <a:ext cx="73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eason is limited to 12 games per weekend over 23 week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No team can play each other more than ano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Games are limited to Saturdays and Sundays on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Each weekend, only two matches are broadca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here should be at most 4 matches on Satur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Teams should play every weekend but only once per week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No team can play home more than 11 games in the seas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No  team can play on Saturdays more than 4 games in the seas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No team can be TV broadcasted more than 3 times in the seas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09600" y="1863720"/>
            <a:ext cx="563760" cy="527040"/>
          </a:xfrm>
          <a:prstGeom prst="rightArrow">
            <a:avLst>
              <a:gd name="adj1" fmla="val 54167"/>
              <a:gd name="adj2" fmla="val 49621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82880" y="4017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rmulation and Method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76080"/>
            <a:ext cx="7543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rmulation of the proble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41400" y="1981080"/>
            <a:ext cx="4626000" cy="4191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872320" y="1976400"/>
            <a:ext cx="2323800" cy="1790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877000" y="3975120"/>
            <a:ext cx="2638440" cy="981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880240" y="5168880"/>
            <a:ext cx="1761840" cy="65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2T23:59:35Z</dcterms:created>
  <dc:creator>Daniel</dc:creator>
  <dc:description/>
  <dc:language>en-US</dc:language>
  <cp:lastModifiedBy>Emilio</cp:lastModifiedBy>
  <dcterms:modified xsi:type="dcterms:W3CDTF">2004-05-03T13:17:06Z</dcterms:modified>
  <cp:revision>76</cp:revision>
  <dc:subject/>
  <dc:title>Southwest Flying Ahead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